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CD67-DFF7-45DA-8E41-13BEE1692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A37E-0D9F-44AD-90D6-03BDB5727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30A3-3863-4106-9E5C-B0D34B26B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B660-6BE4-4A51-B96A-10C4E174B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A3B8-CAFF-41AF-A3C8-92F6BF894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2F3D-5B7F-408C-915F-2D15A9062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E471-6846-41A9-9F11-09586BF40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6F16-9BFF-4D27-9743-5E5C54B3C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D12A-D0F9-40A2-BEF5-2E50F6AF4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CEC4-8C8E-4046-8A27-F1E9CD31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085C-ECB2-4413-ACE3-BAAFAEE4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27C5-4CDD-4B76-87F8-698625B1A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927C1-96BD-4226-BFBC-1F040B60C0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87280" y="476280"/>
            <a:ext cx="6553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99cc00"/>
                </a:solidFill>
                <a:latin typeface="Arial Black"/>
              </a:rPr>
              <a:t>Laser Printer</a:t>
            </a:r>
            <a:endParaRPr b="0" lang="en-US" sz="1800" spc="1" strike="noStrike">
              <a:ln w="9360">
                <a:solidFill>
                  <a:srgbClr val="339966"/>
                </a:solidFill>
                <a:miter/>
              </a:ln>
              <a:solidFill>
                <a:srgbClr val="99cc00"/>
              </a:solidFill>
              <a:latin typeface="Arial Black"/>
              <a:ea typeface="Arial Black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643280" y="2349360"/>
            <a:ext cx="3810240" cy="3810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95280" y="2565360"/>
            <a:ext cx="380988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-150840" y="3967560"/>
            <a:ext cx="6018120" cy="22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08000" tIns="33480" bIns="334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agneto"/>
              </a:rPr>
              <a:t>Duty 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agneto"/>
              </a:rPr>
              <a:t>Up to 25,000 pages/mon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364000" y="2997360"/>
            <a:ext cx="3517920" cy="3517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324000" y="836640"/>
            <a:ext cx="8496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99cc00"/>
                </a:solidFill>
                <a:latin typeface="Arial Black"/>
              </a:rPr>
              <a:t>Dell 1720dn Network Mono Laser Printer</a:t>
            </a:r>
            <a:endParaRPr b="0" lang="en-US" sz="1800" spc="1" strike="noStrike">
              <a:ln w="9360">
                <a:solidFill>
                  <a:srgbClr val="339966"/>
                </a:solidFill>
                <a:miter/>
              </a:ln>
              <a:solidFill>
                <a:srgbClr val="99cc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39280" y="5156280"/>
            <a:ext cx="8137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00 x 1200 dpi (2400 dpi image qual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619280" y="620640"/>
            <a:ext cx="5977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99cc00"/>
                </a:solidFill>
                <a:latin typeface="Arial Black"/>
              </a:rPr>
              <a:t>Resolution</a:t>
            </a:r>
            <a:endParaRPr b="0" lang="en-US" sz="1800" spc="1" strike="noStrike">
              <a:ln w="9360">
                <a:solidFill>
                  <a:srgbClr val="339966"/>
                </a:solidFill>
                <a:miter/>
              </a:ln>
              <a:solidFill>
                <a:srgbClr val="99cc00"/>
              </a:solidFill>
              <a:latin typeface="Arial Black"/>
              <a:ea typeface="Arial Black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059280" y="1206360"/>
            <a:ext cx="351756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94920" y="5661000"/>
            <a:ext cx="8209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0 cents per page which is a fair dea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042920" y="333360"/>
            <a:ext cx="6696000" cy="14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99cc00"/>
                </a:solidFill>
                <a:latin typeface="Arial Black"/>
              </a:rPr>
              <a:t>Cost per page</a:t>
            </a:r>
            <a:endParaRPr b="0" lang="en-US" sz="1800" spc="1" strike="noStrike">
              <a:ln w="9360">
                <a:solidFill>
                  <a:srgbClr val="339966"/>
                </a:solidFill>
                <a:miter/>
              </a:ln>
              <a:solidFill>
                <a:srgbClr val="99cc00"/>
              </a:solidFill>
              <a:latin typeface="Arial Black"/>
              <a:ea typeface="Arial Black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55640" y="2133720"/>
            <a:ext cx="3241800" cy="3241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643280" y="2421000"/>
            <a:ext cx="288612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68360" y="4581000"/>
            <a:ext cx="807552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allel, USB 2.0, 10/100BaseT Ethernet (Cables not includ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547640" y="333360"/>
            <a:ext cx="608976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99cc00"/>
                </a:solidFill>
                <a:latin typeface="Arial Black"/>
              </a:rPr>
              <a:t>Network Cables</a:t>
            </a:r>
            <a:endParaRPr b="0" lang="en-US" sz="1800" spc="1" strike="noStrike">
              <a:ln w="9360">
                <a:solidFill>
                  <a:srgbClr val="339966"/>
                </a:solidFill>
                <a:miter/>
              </a:ln>
              <a:solidFill>
                <a:srgbClr val="99cc00"/>
              </a:solidFill>
              <a:latin typeface="Arial Black"/>
              <a:ea typeface="Arial Black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788000" y="2205000"/>
            <a:ext cx="3720960" cy="24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2T01:59:41Z</dcterms:created>
  <dc:creator>hed0001</dc:creator>
  <dc:description/>
  <dc:language>en-US</dc:language>
  <cp:lastModifiedBy>hed0001</cp:lastModifiedBy>
  <dcterms:modified xsi:type="dcterms:W3CDTF">2008-09-12T02:20:14Z</dcterms:modified>
  <cp:revision>2</cp:revision>
  <dc:subject/>
  <dc:title>Slide 1</dc:title>
</cp:coreProperties>
</file>